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B7FD62-4283-4DE9-8182-FCCFD514B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C44F20-2E82-43DB-982C-1100253E6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49D7C1-994E-409D-8585-EE564BAF63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85DC79-EAD2-4622-878A-9342CE46ED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EF610-1D6B-4DA1-BC4D-6228B067C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BD5B7-E95E-4B80-AF04-329BC9AEB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918D1-CAB0-45C2-84D2-84475B6B7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46C23-2BCF-46F4-8F22-7351187C5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23AB4-B8F8-4019-BFF8-854E7FAB6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9350B-3C49-4B2E-80BC-5088E4629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1102F-5CE4-4A7F-8376-5B000B92A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958674-4F0F-4D16-AC14-BDA4F60A5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0BB60-823D-42B5-BBF7-9C496E56B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7A7CE-D24E-4795-8ECD-D0455FB81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55817-12AA-49F0-A7DA-F73365A7A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66AA0-EDB3-4098-AFBC-47349F523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CD6E7-AFEC-44DD-A583-6527F132E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EC7B56-F054-463A-B8B4-425FB9C9B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EC2540-2408-46CF-B81A-0BFF203A7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944BE3-A885-4622-A1C4-59773F424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83B841-0E56-4FCB-A7C8-469B5FF40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0100D9-6E27-4B08-9CBE-BF390A489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A7F624-54C8-4921-AE07-780041905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E81EBC-048F-427E-B363-D3F7830FDD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3565-2977-458B-BCAF-599CC2FB27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FD67-EB89-43ED-9AD4-0171D89A22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B5B5-33F5-46F7-B6BF-405F43725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80520" y="213012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7d"/>
                </a:solidFill>
                <a:latin typeface="Arial"/>
              </a:rPr>
              <a:t>Software Inspections – 3</a:t>
            </a:r>
            <a:endParaRPr b="0" lang="en-US" sz="3800" spc="-1" strike="noStrike">
              <a:solidFill>
                <a:srgbClr val="000000"/>
              </a:solidFill>
              <a:latin typeface="Arial"/>
            </a:endParaRPr>
          </a:p>
        </p:txBody>
      </p:sp>
      <p:sp>
        <p:nvSpPr>
          <p:cNvPr id="107"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1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66A1-FA90-4127-9012-3B63D5013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be using the ETVX model to describe the steps in the inspections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0DDA-E7B1-4C82-8E10-1A61DAA11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nd Scheduling - 1</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sure adequate time and resources are allocated for inspections and to establish schedules in the project for work products to be inspected, to designate the inspection team, and to ensure the entry criteria are satisfi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5CB1-04B6-42D7-AA5F-9311FC5FF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nd Scheduling - 2</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 plans exist at three levels of knowledge as the project progress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things that are unknow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things that are becoming know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things that are known</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details reveal themselves to the planner as a rolling w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4B4F-C5AB-4275-9B2E-161CB2E65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nd Scheduling - 3</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lead must plan which inspections are to be performed at the initial stages of the proj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knowns become know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two section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plan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schedu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94E1-5CF2-4BD2-BEBE-43537F244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lanning: Responsibility</a:t>
            </a:r>
            <a:endParaRPr b="0" lang="en-US" sz="40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lead or whoever is responsible for managing the work for a specified software project is responsible for performing the activities for Inspection Pla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4FB4-957C-48F2-A6E8-0D4AE869C3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ection Planning: Entry Criteria - 1</a:t>
            </a:r>
            <a:endParaRPr b="0" lang="en-US" sz="32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licy exists for inspections in the project’s organization</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procedures, including planning for inspections exist</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begins and includes the requirement to plan for inspection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product types to be inspected are identified in the project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1392-68B8-45A1-8DFF-07E6716DE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ection Planning: Entry Criteria - 2</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defined work product completion or readiness criteria are availab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estimates are provided for the size of the work products to be inspect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project participants have been trained or a training plan is defin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nd targets have been established for the volume or percentage of work products to be inspec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4AE3-FE31-430A-B232-BFC500163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Planning: Tasks</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at will be inspec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resources for inspections and allocate budge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milestones for the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dependencies on other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898D-746D-44B1-9689-75CC62C9E0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lanning: Validation/Verification - 1</a:t>
            </a:r>
            <a:endParaRPr b="0" lang="en-US" sz="40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group in the organization should assure that the project plan has been documented and includes planned inspections as required by the organization policy and proced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2486-9EB8-4DEA-A166-F62888844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Planning: Validation/Verification - 2</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o be gathered during this activity</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work products are planned for inspection</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timated size of work products to be inspected</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lanned inspections</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effort to be spent on inspections</a:t>
            </a:r>
            <a:endParaRPr b="0" lang="en-US" sz="28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8C0A-9DE6-41D1-BA7F-AD283F797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nspections Are Not - 1</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view of the style of a work produ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view of the producer, and especially not a means to evaluate the producer by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romptu meeting; it is a scheduled meeting with resource considerations to enable effective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147E-ED83-4E4A-A95D-6733E6B86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Planning: Exit Criteria</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project plan showing the inspections to be held, including resources and milestones that may be known in the early stages of the project</a:t>
            </a:r>
            <a:endParaRPr b="0" lang="en-US" sz="28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ilestones may not be known a boundary of probable dates should be noted in the plan for the inspections</a:t>
            </a:r>
            <a:endParaRPr b="0" lang="en-US" sz="28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resources are allocated in the project plan for insp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E8AE-1C59-4C89-9322-A1D692247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Scheduling: Responsibility</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lead is responsibl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equesting, selecting, or assigning Moderators when a work product approaches inspection readine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nsuring the work product will be ready for inspec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nsuring that the participants are made availabl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king known to a qualified Moderator that an inspection is to be schedule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2081-2ADD-4DDD-ACD0-70D7AE82F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Scheduling: Other Roles</a:t>
            </a:r>
            <a:endParaRPr b="0" lang="en-US" sz="40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with the project lead is responsible for completing inspection schedul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ment on a specific dat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ing that entry criteria is m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ing all logistics requirem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the participants and inspection activit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4F58-549F-4576-B481-13F210EC1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Scheduling: Entry Criteria</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ork product is approaching inspection readin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 are avail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lead makes a request to a moderator for an inspection or a set of insp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B86D-BE75-488E-B4EF-C9143E221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Scheduling: Tasks</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a notification that an inspection will be need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inspection meeting da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the work product to be inspected meets entry criter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the inspection me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4000-E241-4B1B-8AF3-1E9BA6FC5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Scheduling: Validation/Verification - 1</a:t>
            </a:r>
            <a:endParaRPr b="0" lang="en-US" sz="40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remains actively involved during the inspection scheduling period and is responsible for assuring that all tasks up to completion of the inspection meeting are perform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groups ensures that a moderator has been assig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128F-F8F2-405D-AA9C-5C008C1D9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Scheduling: Validation/Verification - 2</a:t>
            </a:r>
            <a:endParaRPr b="0" lang="en-US" sz="40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athered during this activity includes</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in advance the project lead is sending notification to the moderator</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is the period between notification and the inspection meeting</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inspections required postponement</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versus planned insp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534A-F050-4810-A345-ACE331FD0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 Scheduling: Exit Criteria</a:t>
            </a:r>
            <a:endParaRPr b="0" lang="en-US" sz="40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activities have been recorded as Performed on the scheduled dates and Closed within the dates determined at the inspection meeting or r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0108-EF77-4A74-A09E-66897D080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 1</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the inspection participants a background and understanding, when warranted, of the scheduled inspection material</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is not an inspection meet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spectors are sufficiently familiar with the work product, the overview can be skip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D4DF-7ED8-43B4-B03E-440563EB2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 2</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reason for an overview meeting, is to identify any open issues in the work produ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en issue is an acknowledgement of the fact that a subpart of the work product is not complete for some reas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er may want focus the inspectors on subparts that are problematic or of some conc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4120-C63A-4DAD-9F46-85BEA4EF8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nspections Are Not - 2</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sual or informal meeting; there is structure and rigor for a purpo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e time or place to fix defects or discuss possible solu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But they do yield a high return on invest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F425-D3E7-4DE2-8D4E-8163AA063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Responsibility</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s primary responsibility for the success of the overview meeting is to deliver the present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verview material is provided, it is the producer’s responsibility to make sufficient copies for the meeting either directly or via the moder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55C9-0E1F-47E5-8CB9-DD861CE50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ther Roles</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rator determines with the project lead whether an overview is necessary, schedules the overview meeting, obtains the meeting room, and records the time of the meeting, the number of participants, and the results of the meet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ors participate during the overview meeting and must concur that the overview met the exit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E4CA-DC44-4F17-852E-13EC01558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Entry Criteria - 1</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ject lead has sent notification for an inspection</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ion requires a mandatory overview, or criteria for an optional overview has been satisfied; e.g.,</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of the work product solution</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of material in the work product</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ity of the work product</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B160-37EB-41CE-BA73-151F64BDB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Entry Criteria - 2</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er is ready to present the overvie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 and any potential problem areas are highligh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7AC1-14ED-41E7-A35F-DEBBA5F64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Tasks - 1</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r prepares for the overview using a format and style that will best convey the information to the participant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or invites the participants to the overview meetin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r presents the overview</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team members concur that the overview satisfies the needs for preparation and inspection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9D3B-6B80-4394-9A2E-F93D02D68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Tasks - 2</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open issues are documented in the inspection repor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verview is used to familiarize the participants with their roles, the inspection process, or some other aspect key to this inspection, the moderator will provide this brief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if any, are docum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9164-F862-49A5-A028-A1A3A2B73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Validation/Verification - 1</a:t>
            </a:r>
            <a:endParaRPr b="0" lang="en-US" sz="40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ator uses the work product overview meeting entry criteria and procedure to determine if a meeting is necessa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team is in concurrence with the decision taken to have an overview 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E730-7934-4EBB-B1E8-B4C789FA7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Validation/Verification - 2</a:t>
            </a:r>
            <a:endParaRPr b="0" lang="en-US" sz="40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ors have the responsibility to state that the overview, when held, is satisfactory for their preparation and subsequent inspection meeting</a:t>
            </a:r>
            <a:endParaRPr b="0" lang="en-US" sz="28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A group ensures that the moderator has used the overview meeting criteria and ensures an appropriate decision was made to have an overview or not. This can be done via audits of the process records or sampling of insp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CFC3-6C7F-4F72-A8BA-AC6AAB0B3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Validation/Verification - 3</a:t>
            </a:r>
            <a:endParaRPr b="0" lang="en-US" sz="40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gathered during this activity</a:t>
            </a:r>
            <a:endParaRPr b="0" lang="en-US" sz="32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participant time was spent in the overview</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ck time for the overview</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between notification and the overview meeting</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verviews required rescheduling</a:t>
            </a:r>
            <a:endParaRPr b="0" lang="en-US" sz="2800" spc="-1" strike="noStrike">
              <a:solidFill>
                <a:srgbClr val="000000"/>
              </a:solidFill>
              <a:latin typeface="Arial"/>
            </a:endParaRPr>
          </a:p>
          <a:p>
            <a:pPr lvl="1" marL="713160" indent="-27432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defects were identified at the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E7F6-FAB8-4CAB-A664-B6C445D11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Exit Criteria</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view meeting was determined to be satisfactory by the inspectors and SQ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 are documen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problems areas are noted to the participants for preparation and for the reader for the inspection mee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if any, are docum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5AB5-7DC4-4067-B561-001888B62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nspections Are Not - 3</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ehicle for shifting responsibility to inspectors for quality of the work produ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 performed at the end of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2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planning &amp; scheduling and overview of the software inspections process</a:t>
            </a:r>
            <a:endParaRPr b="0" lang="en-US" sz="3200" spc="-1" strike="noStrike">
              <a:solidFill>
                <a:srgbClr val="000000"/>
              </a:solidFill>
              <a:latin typeface="Arial"/>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2F48-9785-4096-80DE-C5CAE8629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2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nspections by Ronald A. Radice, Tata-McGraw Hill, 2003 (Chapter 3.1 – 3.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48AD-0C16-4E85-A8BC-491A18B99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B317-2D49-4BC5-BB6E-CEC9643B73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the products but the processes that create products that bring companies long-term succes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Hammer and James Cham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9203-4E93-4B17-BDB2-308515E2B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Following slide to be inserted</a:t>
            </a:r>
            <a:endParaRPr b="0" lang="en-US" sz="5000" spc="-1" strike="noStrike">
              <a:solidFill>
                <a:srgbClr val="000000"/>
              </a:solidFill>
              <a:latin typeface="Arial"/>
            </a:endParaRPr>
          </a:p>
        </p:txBody>
      </p:sp>
      <p:sp>
        <p:nvSpPr>
          <p:cNvPr id="122"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spection Process Flow</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114E-26BB-4D7D-BD04-E12A3A99F9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Process Flow</a:t>
            </a:r>
            <a:endParaRPr b="0" lang="en-US" sz="4400" spc="-1" strike="noStrike">
              <a:solidFill>
                <a:srgbClr val="000000"/>
              </a:solidFill>
              <a:latin typeface="Arial"/>
            </a:endParaRPr>
          </a:p>
        </p:txBody>
      </p:sp>
      <p:pic>
        <p:nvPicPr>
          <p:cNvPr id="125" name="Picture 7" descr="Inspection-Process"/>
          <p:cNvPicPr/>
          <p:nvPr/>
        </p:nvPicPr>
        <p:blipFill>
          <a:blip r:embed="rId1"/>
          <a:stretch/>
        </p:blipFill>
        <p:spPr>
          <a:xfrm>
            <a:off x="609480" y="1676520"/>
            <a:ext cx="79250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A165-6D4A-41A4-A22A-AED3A698B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Following slide to be inserted</a:t>
            </a:r>
            <a:endParaRPr b="0" lang="en-US" sz="5000" spc="-1" strike="noStrike">
              <a:solidFill>
                <a:srgbClr val="000000"/>
              </a:solidFill>
              <a:latin typeface="Arial"/>
            </a:endParaRPr>
          </a:p>
        </p:txBody>
      </p:sp>
      <p:sp>
        <p:nvSpPr>
          <p:cNvPr id="128"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spection Proces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4765-DD9D-4204-8F66-F6E62A6BB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Proces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and schedul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ation</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ion meet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meet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up</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meeting</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cording and reports</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ion process monitoring</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5:43:24Z</dcterms:created>
  <dc:creator>Ghulam Ahmad Farrukh</dc:creator>
  <dc:description/>
  <dc:language>en-US</dc:language>
  <cp:lastModifiedBy>ahmadmohsin</cp:lastModifiedBy>
  <dcterms:modified xsi:type="dcterms:W3CDTF">2009-05-30T04:25:53Z</dcterms:modified>
  <cp:revision>423</cp:revision>
  <dc:subject/>
  <dc:title>Software Inspections</dc:title>
</cp:coreProperties>
</file>